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3A6-05D3-4F3B-8E62-1C8DDCA0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6A6-7636-4B1B-9A48-451C8EC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60E-E698-44F3-8D89-3D709423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BB7-85F2-4542-81C5-9038B4F5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CD77-0A94-412E-9582-4955EBF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A131-E4B9-49D4-9D74-54D988A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DE8D-52ED-4E98-8436-A586FD6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569D-D1D2-4F93-AD7A-CABD04C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75AE-55C9-4D37-A7B3-0A3A42F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04B-3F2B-460F-BBCE-EDB4936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C8B-BEA4-4EA5-AD13-D8853A7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A45-6C13-41B8-AC59-1FE4944B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5CE-EE3E-4695-BE9F-0F48EF2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2DCD-75A0-4C73-8319-66682B1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5A03-26D6-4A9D-BA12-332251A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0442-E661-4437-BC8F-73A7D1C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951B-D84B-4A9D-B778-264C2238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838-E2BC-43A5-9BF8-BF7510F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1F0-97F0-468B-97BD-E99A6DE5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96-681B-4505-87AD-91C7A89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CCA-F02D-47DB-8974-90E19D9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0BE-A140-44C5-B4FA-73AA820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9E7-4E2B-4B9E-B350-5358DAF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AAE-EC7E-46B1-9D62-6D82D5A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B0E618-7031-43A8-90CC-9F23A743296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E0F343-DA4A-4520-9959-50C2F2DEB5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knowit.ru/" TargetMode="External"/><Relationship Id="rId2" Type="http://schemas.openxmlformats.org/officeDocument/2006/relationships/hyperlink" Target="http://www.iknowit.ru/words/word55747.html" TargetMode="External"/><Relationship Id="rId3" Type="http://schemas.openxmlformats.org/officeDocument/2006/relationships/hyperlink" Target="http://www.iknowit.ru/words/word55747.html" TargetMode="External"/><Relationship Id="rId4" Type="http://schemas.openxmlformats.org/officeDocument/2006/relationships/hyperlink" Target="http://im6-tub-ru.yandex.net/i?id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692280"/>
            <a:ext cx="8200800" cy="28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Что такое толерантность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и почему её надо воспитывать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6000" y="4508640"/>
            <a:ext cx="6762600" cy="157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МОУ Любохонкая СОШ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учитель начальных классов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Уваренкова Наталья Вячеславовна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00720" cy="4470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84360" y="404640"/>
            <a:ext cx="7704000" cy="142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16 ноября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Международный день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толерантности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7fc24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knowit.ru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›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ords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word55747.html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ttp://im5-tub-ru.yandex.net/i?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ttp://im4-tub-ru.yandex.net/i?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ttp://im5-tub-ru.yandex.net/i?id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im6-tub-ru.yandex.net/i?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ttp://im7-tub-ru.yandex.net/i?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ка образования» № 4-2009г., № 1, 2, 3-2010г.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00000" y="981000"/>
            <a:ext cx="7128000" cy="496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Теперь, когда мы научились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летать по воздуху, как птицы,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плавать под водой,как рыбы,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нам не хватает только одного: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научиться жить на земле, как люди.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                                     </a:t>
            </a: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Б.Шоу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620640"/>
            <a:ext cx="7129440" cy="187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Толерантность -  терпимость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к чужим мнениям,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верованиям, поведению.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6337440" cy="3220920"/>
          </a:xfrm>
          <a:prstGeom prst="rect">
            <a:avLst/>
          </a:prstGeom>
          <a:ln w="9360">
            <a:solidFill>
              <a:srgbClr val="f7fc24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00720" y="907920"/>
            <a:ext cx="4392360" cy="504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В ХVIII - ХIХ веках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во Франции жил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Талейран Перигор, 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князь Беневентский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0200" cy="4967280"/>
          </a:xfrm>
          <a:prstGeom prst="rect">
            <a:avLst/>
          </a:prstGeom>
          <a:ln w="9360">
            <a:solidFill>
              <a:srgbClr val="f7fc24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333360"/>
            <a:ext cx="825804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Проявления не толерантных отношений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03280" y="141300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1. Непохожий на других..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32000" y="2276640"/>
            <a:ext cx="669744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2. Неуспешный ученик..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4920" y="3068640"/>
            <a:ext cx="8209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3. Истоки школьной дедовщины..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158920" cy="2311560"/>
          </a:xfrm>
          <a:prstGeom prst="rect">
            <a:avLst/>
          </a:prstGeom>
          <a:ln w="9360">
            <a:solidFill>
              <a:srgbClr val="27f99a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2165400" cy="2303640"/>
          </a:xfrm>
          <a:prstGeom prst="rect">
            <a:avLst/>
          </a:prstGeom>
          <a:ln w="9360">
            <a:solidFill>
              <a:srgbClr val="27f99a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873440" cy="2303640"/>
          </a:xfrm>
          <a:prstGeom prst="rect">
            <a:avLst/>
          </a:prstGeom>
          <a:ln w="9360">
            <a:solidFill>
              <a:srgbClr val="27f99a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Чувство юмо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Уважение мнения друг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Доброжела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Умение владеть соб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Умение слушать собеседн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Поним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принят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Чуткост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любознательност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гуманиз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7fc24"/>
                </a:solidFill>
                <a:latin typeface="Times New Roman"/>
              </a:rPr>
              <a:t>Критерии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7fc24"/>
                </a:solidFill>
                <a:latin typeface="Times New Roman"/>
              </a:rPr>
              <a:t>толерантности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7fc24"/>
                </a:solidFill>
                <a:latin typeface="Times New Roman"/>
              </a:rPr>
              <a:t>Критерии</a:t>
            </a:r>
            <a:r>
              <a:rPr b="1" lang="ru-RU" sz="5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f7fc24"/>
                </a:solidFill>
                <a:latin typeface="Times New Roman"/>
              </a:rPr>
              <a:t>интолерантности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Непоним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Эгоиз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Нетерпим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Выраже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пренебреж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Раздражи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Равнодуш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Циниз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7160" indent="-31716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Немотивированна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7f99a"/>
                </a:solidFill>
                <a:latin typeface="Times New Roman"/>
              </a:rPr>
              <a:t>агрессив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fc24"/>
                </a:solidFill>
                <a:latin typeface="Times New Roman"/>
              </a:rPr>
              <a:t>Приёмы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7fc24"/>
                </a:solidFill>
                <a:latin typeface="Times New Roman"/>
              </a:rPr>
              <a:t>воспитания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7fc24"/>
                </a:solidFill>
                <a:latin typeface="Times New Roman"/>
              </a:rPr>
              <a:t>толерантност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7840" y="1557360"/>
            <a:ext cx="81565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1. Организация деятельности детей в классе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2924280"/>
            <a:ext cx="820728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2. Организация диалоговой рефлексии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4365720"/>
            <a:ext cx="8353440" cy="172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3. Использование художественной 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7f99a"/>
                  </a:solidFill>
                  <a:miter/>
                </a:ln>
                <a:solidFill>
                  <a:srgbClr val="27f99a"/>
                </a:solidFill>
                <a:latin typeface="Arial"/>
              </a:rPr>
              <a:t>литературы, кинофильмов.</a:t>
            </a:r>
            <a:endParaRPr b="0" lang="en-US" sz="1800" spc="1" strike="noStrike">
              <a:ln w="9360">
                <a:solidFill>
                  <a:srgbClr val="27f99a"/>
                </a:solidFill>
                <a:miter/>
              </a:ln>
              <a:solidFill>
                <a:srgbClr val="27f99a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335480" cy="511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124000" y="404640"/>
            <a:ext cx="4897440" cy="812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7fc24"/>
                  </a:solidFill>
                  <a:miter/>
                </a:ln>
                <a:solidFill>
                  <a:srgbClr val="f7fc24"/>
                </a:solidFill>
                <a:latin typeface="Arial"/>
              </a:rPr>
              <a:t>Китайская притча</a:t>
            </a:r>
            <a:endParaRPr b="0" lang="en-US" sz="1800" spc="1" strike="noStrike">
              <a:ln w="9360">
                <a:solidFill>
                  <a:srgbClr val="f7fc24"/>
                </a:solidFill>
                <a:miter/>
              </a:ln>
              <a:solidFill>
                <a:srgbClr val="f7fc24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23:51Z</dcterms:created>
  <dc:creator/>
  <dc:description/>
  <dc:language>en-US</dc:language>
  <cp:lastModifiedBy/>
  <cp:revision>1</cp:revision>
  <dc:subject/>
  <dc:title>Слайд 1</dc:title>
</cp:coreProperties>
</file>