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544-A070-45AD-8366-BFDBE41C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440" y="4822920"/>
            <a:ext cx="86043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375-2470-4884-A0A1-3025A5B9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8229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8229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D8E-7C18-4869-8B2A-2F2566C4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440" y="48229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8229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8229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BA2-704E-486B-A570-6879F540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440" y="48229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EBD-2553-45A0-AE50-0A291843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8360" y="48229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822920"/>
            <a:ext cx="86043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440" y="4822920"/>
            <a:ext cx="86043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440" y="48229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8360" y="48229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440" y="48229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8600" y="48229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7760" y="4822920"/>
            <a:ext cx="277020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D0D-30D9-49A3-9EC2-F8498255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2C8-FDA9-4B56-843C-CD4C044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A3E-9CAA-431D-9545-6DCB1366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BAA-BBF2-4AB5-B3BB-53B79FD3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440" y="48229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544-716A-4469-8FA2-75938FF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8229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788-D36F-4B20-9AC2-65E01AE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440" y="4822920"/>
            <a:ext cx="86043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7C5-E242-47A9-8DA5-4EA16279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5FB79-378A-4851-9E75-6F5DD4CC2DD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sc.1september.ru/2004/24/2.jpg" TargetMode="External"/><Relationship Id="rId3" Type="http://schemas.openxmlformats.org/officeDocument/2006/relationships/hyperlink" Target="http://standart.edu.ru/" TargetMode="External"/><Relationship Id="rId4" Type="http://schemas.openxmlformats.org/officeDocument/2006/relationships/hyperlink" Target="http://www.zankov.ru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60360" y="2535120"/>
            <a:ext cx="828036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b0094"/>
                </a:solidFill>
                <a:latin typeface="Arial"/>
              </a:rPr>
              <a:t>ИДЕИ Л.В. ЗАНКОВА И ФГОС: КУРС НА РАЗВИТИЕ РЕБЁ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179280"/>
            <a:ext cx="91803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80047"/>
                </a:solidFill>
                <a:latin typeface="Arial"/>
              </a:rPr>
              <a:t>Педагогические чтения, посвящё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80047"/>
                </a:solidFill>
                <a:latin typeface="Arial"/>
              </a:rPr>
              <a:t>110-летию со дня рожд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80047"/>
                </a:solidFill>
                <a:latin typeface="Arial"/>
              </a:rPr>
              <a:t>Леонида Владимировича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00360" y="6659640"/>
            <a:ext cx="7559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0047"/>
                </a:solidFill>
                <a:latin typeface="Arial"/>
              </a:rPr>
              <a:t>Дятьково, 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59280" y="5056200"/>
            <a:ext cx="4319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Гальцова Т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МОУ Любохон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0360" y="181080"/>
            <a:ext cx="1359000" cy="143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459640" y="5580000"/>
            <a:ext cx="1449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0360" y="1079640"/>
            <a:ext cx="3959280" cy="66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Разнообразие организационных форм и учёт индивидуальных особенностей каждого обучающегося (включая одарённых детей и детей с ограниченными возможностями здоров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179280"/>
            <a:ext cx="5580000" cy="79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Мы стараемся избежать того, чтобы «стричь под одну гребёнку» всех учащихся класса, нивелировать их продвижение. Заботу об оптимальном развитии всех школьников надо органически соединять с выявлением, взращиванием и надлежащим использованием индивидуальных склонностей и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0360" y="181080"/>
            <a:ext cx="1359000" cy="1258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640720" y="0"/>
            <a:ext cx="1449360" cy="180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079640"/>
            <a:ext cx="5400720" cy="66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Гарантированность достижения планируемых результатов освоения основной образовательной программы начального общего образования, что и создает основу для самостоятельного успешного усвоения обучающимися новых знаний, умений, компетенций, видов и способов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0360" y="1800360"/>
            <a:ext cx="431964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Обогащение всё новыми и новыми знаниями, раздумья, стремление самому доискаться до истины, выполнение сложных заданий — всё это отличает интенсивное и устойчивое внутреннее побуж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0360" y="181080"/>
            <a:ext cx="1359000" cy="1144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0360" y="1440000"/>
            <a:ext cx="7380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В соответствии со Стандартами на ступени начального общего образования осуществляется формирование основ умения учиться и способности к организации своей деятельности — умение принимать, сохранять цели и следовать им в учебной деятельности, планировать свою деятельность, осуществлять её контроль и оценку, взаимодействовать с педагогом и сверстниками в учеб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820000" y="0"/>
            <a:ext cx="1270080" cy="1619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3080" y="111240"/>
            <a:ext cx="9735840" cy="79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полне правомерно новое понимание сознательностикак всё возрастающую осознанность самого процесса обучения. 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Эта линия имеет силу для обучения русскому языку, арифметике и другим предметам. Она может быть реализована в том, чтобы главная роль принадлежала не показу учителем нужных приёмов и подражание этому показу, а планированию, умению предвосхитить ход выполнения задания и тщательно контролировать себя в процессе работы. Формированию самоконтроля у младших школьников способствует и то обстоятельство, что дети на каждом уроке сталкиваются с новыми вопросами и задачами, разрешению которых требует приобретения новых 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20720" y="1119240"/>
            <a:ext cx="899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Освоение нового ФГОС - это неотъемлемая часть школьной жизни, нашей с вами жизни. Освоение стандартов на высоком уровне трудности стимулирует нас к развитию профессиональных компетентностей, заставляет по-новому взглянуть на весь педагогический процесс, накопленны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00360" y="2340000"/>
            <a:ext cx="75596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й бюллетень №1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sc.1september.ru/2004/24/2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standart.edu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zankov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492200"/>
            <a:ext cx="2339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11360" y="433440"/>
            <a:ext cx="3968640" cy="5686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20720" y="6480000"/>
            <a:ext cx="4140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1901 -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40360" y="360360"/>
            <a:ext cx="4680000" cy="68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Arial"/>
              </a:rPr>
              <a:t>2011 год — юбиле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Arial"/>
              </a:rPr>
              <a:t>110 лет со дня рождения Л.В. За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Arial"/>
              </a:rPr>
              <a:t>10-летие общественной педагогической организации — Объединение профессионалов, содействующих системе Л.В. За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Arial"/>
              </a:rPr>
              <a:t>Год Первого Всероссийского слёта педагогов развивающе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9200" y="360360"/>
            <a:ext cx="9371160" cy="63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– построение личностно ориентированной развивающей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(Из Концепции Федеральных Государственных образовательных стандартов 1-го поколен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ичности – смысл и цель совреме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(Из Концепции Федеральных Государственных стандартов 2-го поколен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учения - достижение оптимального общего развития каждого ребенка при сохранении его психического и физическ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Л.В. За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e4649"/>
                </a:solidFill>
                <a:latin typeface="Times New Roman"/>
              </a:rPr>
              <a:t>Общее развитие – развитие ума, воли, чувств, нравственных предста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60360" y="4629240"/>
            <a:ext cx="1979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ФГ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19640" y="1981080"/>
            <a:ext cx="43196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Arial"/>
              </a:rPr>
              <a:t>Л.В. Зан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00080"/>
                </a:solidFill>
                <a:latin typeface="Arial"/>
              </a:rPr>
              <a:t>«Обучение и развит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Arial"/>
              </a:rPr>
              <a:t>«О начальном обучен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0000" y="2095560"/>
            <a:ext cx="1800000" cy="204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910640" y="1260360"/>
            <a:ext cx="18097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0360" y="399960"/>
            <a:ext cx="540072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истемно-деятельностный подход предполаг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оспитание и развитие качеств личности, отвечающих требованиям информационного общества, инновационной экономики, задачам построения демократического гражданского общества на основе толерантности, диалога культур и уважения многонационального, поликультурного и поликонфессионального состава российск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1260360"/>
            <a:ext cx="3938760" cy="65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Для постановки вопроса о перестройке начального обучения решающее значение имеют задачи, выдвинутые ныне перед школой. Школе предстоит сыграть выдающуюся роль в воспитании нового человека, в формировании всесторонне развит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1359000" cy="114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820000" y="0"/>
            <a:ext cx="12607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60360" y="18108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20720" y="1440000"/>
            <a:ext cx="362916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истемно-деятельностный подход предполагает переход к стратегии социального проектирования и конструирования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944960" y="1496880"/>
          <a:ext cx="4319640" cy="529776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5297760">
                <a:tc>
                  <a:txBody>
                    <a:bodyPr lIns="90000" rIns="90000" tIns="1314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Мы хотим, чтобы жизнь широким потоком врывалась в школьное обучение, чтобы дети увидели её во всей многогранности и красочности, увидели, как связаны между собой усваиваемые зн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271000" y="0"/>
            <a:ext cx="18097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0360" y="1810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640720" y="0"/>
            <a:ext cx="1449360" cy="180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1260360"/>
            <a:ext cx="4500720" cy="66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истемно-деятельностный подход предполагает ориентацию на результаты как системообразующий компонент Стандарта. Цель и основной результат образования — усвоение универсальных учебны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00720" y="1979640"/>
            <a:ext cx="463392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чества личности, равно как и способы действия, имеющие своей основой общее развитие, обнаруживаются на любом материале, в самых разнообразных ситуа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60360" y="181080"/>
            <a:ext cx="1359000" cy="114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631360" y="0"/>
            <a:ext cx="1449360" cy="180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179280"/>
            <a:ext cx="4140360" cy="79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истемно-деятельностный подход предполагает признание решающей роли содержания образования, способов организации образовательной деятельности и взаимодействия участников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0000" y="179280"/>
            <a:ext cx="5580000" cy="79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ледует резко 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овысить 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удельный вес познавательной стороны начального обучения, теоретических знаний. Конечно, огромное значение привития учащимся орфографических, вычислительных и других навыков отнюдь не отрицается. Однако необходимо формировать их на основе полноценного общего разви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60360" y="181080"/>
            <a:ext cx="1258920" cy="1144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820000" y="0"/>
            <a:ext cx="1270080" cy="144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2052720"/>
            <a:ext cx="39592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Учёт индивидуальных возрастных, психологических и физиологических особенностей обучаю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298520"/>
            <a:ext cx="4964040" cy="66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Обучение, поставленное надлежащим образом, будет служить существенному продвижению в развитии всех учащихся. Одновременно мы отдавали себе отчёт в том, что развитие — как по его темпам, так и по качественным особенностям — не будет одинак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4:52:18Z</dcterms:created>
  <dc:creator/>
  <dc:description/>
  <dc:language>en-US</dc:language>
  <cp:lastModifiedBy/>
  <dcterms:modified xsi:type="dcterms:W3CDTF">2011-10-25T19:18:27Z</dcterms:modified>
  <cp:revision>20</cp:revision>
  <dc:subject/>
  <dc:title/>
</cp:coreProperties>
</file>